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8EE-9F18-4F93-9346-52FE2E67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721-25FA-432D-843E-EFB91424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B6A-2C3E-4764-9320-C96F37F3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5D1-06A1-43A0-A14F-9F531A07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9110-DEFA-4B9B-84BC-B976623A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6BCE-79BE-492B-B4D6-A4704AA5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291F-779B-469C-834D-BDAAE422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4606-734A-462F-AC95-C4DB32D2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A99A-3734-4A9C-8A80-222FE69F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AFEB-5DFC-4A75-B5BE-16D5A14C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9E63-D391-4D96-A8AB-EFB9EFD9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ED4-7F79-415B-A184-2B2C822B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ED45-C007-4F86-80F2-65E12151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01AD-8F64-4853-9AF5-497492CA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3C0A-2CF9-4FE5-8D5F-F7298914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ABEC-895E-4C0B-AB3C-F61BC7E7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FF35-6F2A-4310-AEDB-04BCC077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1377-2B58-4A9F-B48C-E0A9BA0B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C12F-BE80-47EB-98EA-48D2D104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74C2-AC2D-4D57-8FFC-40E1E9D6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A116-E9FC-404A-8D23-6D4C6537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7FE8-2F89-42ED-A318-5B23E3F0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667-05A2-4A24-B6C4-04CC2281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619B-C08E-4690-A255-69291A68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9BED-DE02-4376-9938-AFD88AAE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0ACB-D8C6-4961-B4A8-74A58E70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7849-3775-4A02-A0BF-E1775C5D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7F15C-982F-4F9A-9532-DCF3CA2F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D66F-FDDC-4B79-9D9C-0C917E51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97A5-C328-491A-952C-78A00BEF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B175E-A809-45C4-A592-FDF8B871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BD5C-6C78-44ED-98E0-00D4C762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CBAD7-C193-4931-BDA1-A8A000A5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F90-6D51-47D1-AD91-7A1FAA71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36F7E-BDD4-44AF-93E5-43CC01DE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176C9-D3A8-447E-8A9D-F44049F6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405E6-11F2-4A14-A96E-33702D11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0F1CA-3678-476B-A4F1-5B4A5103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0DF0D-82A3-47A4-B357-00A1761F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C848A-6BCC-43EA-AC5D-B38F239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C201E-C3F2-46A7-B27E-5F97A322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D1CBE-5EEA-4E69-8F11-F698A07C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FE09-0C60-42F0-AB71-7B828405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8B410-7EDF-44C5-8B97-8A993FD7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F84-215E-4588-A218-B5E0D644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991D8-61B6-4DA7-8BA9-2B936B8D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E174-C194-43BB-B00B-2DC4889F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DD77C-F135-4E8F-B348-8BFED430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EF02-FE5E-4382-81F0-035E4490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CF1D1-F082-4E4D-A7C6-462ED418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7461-FE26-48C1-9E21-73AEE8F8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EBD0C-D482-4AD4-853C-A86CC282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2CAAC-9FCC-4D13-AC47-636813F2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C7BDA-B254-4CD9-9581-15E1C995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DD0BF-54A9-4DFB-94FB-B8C8BA08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F22-AA49-4DB3-9447-C8E663CB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ACFB-219D-471F-B604-53F10C4F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85C-73A7-4A3A-8EBD-5BBB8570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3A9-7A84-41BB-9F70-462CA8D0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017-ADFA-46AF-B426-A99CC14C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6C36-7250-4FDB-B381-0AABF9F8C20C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965F-3D2D-4D09-854E-676871B63C64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6FE4-FEB2-44C7-9345-B51F8FF8B645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86E2-B334-48C8-B80E-F7DB3ED80FFD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AA13-E0E5-4110-9D78-B3D268AEDA4C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Good readers notice when </a:t>
            </a:r>
            <a:r>
              <a:rPr b="0" i="1" lang="en-US" sz="4800" spc="-1" strike="noStrike">
                <a:solidFill>
                  <a:srgbClr val="000000"/>
                </a:solidFill>
                <a:latin typeface="Bookman Old Style"/>
              </a:rPr>
              <a:t>or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 if a character changes over the course of a story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mudge is a dynamic character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tripe is a static character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an you use evidence from the story to explain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2286000" cy="281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2292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Characters that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don’t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  experience change during the course of a story are called </a:t>
            </a: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static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 characters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Character that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do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 experience change throughout the plot of a story are called </a:t>
            </a: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dynamic 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characters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Good readers can tell if a character is static or dynamic based on the events of the story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Notice the character at the beginning of the story and also at the end. Ask yourself, “Has the character changed in an important way?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0880" y="45720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Think about the story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She Come Bringing Me That Baby Girl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by Eloise Greenfield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s Kevin a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charact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otice the character at the beginning of the story and also at the end. Ask yourself, “Has the character changed in an important way?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He is a dynamic character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was making me sick to see them crowding around that ugly old baby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Verdana"/>
              </a:rPr>
              <a:t>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“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looked at her again and she wasn’t that ugly anymore .  She was a little bit cute, even with the wrinkle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“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know , when my sister’s fingers grow some, maybe I can show her how to throw a football.  If she uses both hand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7391520" y="4800600"/>
            <a:ext cx="1388880" cy="16002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5"/>
          <p:cNvSpPr/>
          <p:nvPr/>
        </p:nvSpPr>
        <p:spPr>
          <a:xfrm>
            <a:off x="380880" y="38088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Think about the story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Amelia Bedelia and the Surprise Shower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by Peggy Par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Is Amelia Bedelia a 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tatic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or 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dynamic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charac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otice the character at the beginning of the story and also at the end. Ask yourself, “Has the character changed in an important wa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She is a static character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melia Bedelia iced her cakes.  “And there's enough icing left to ice the fish too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melia Bedelia!” she cried.  “What did you do to those flowers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hink about the story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Smudge’s Grumpy Day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by Miriam Mos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Is Smudge a 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dynamic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or 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static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character?  What about Strip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otice the character at the beginning of the story and also at the end. Ask yourself, “Has the character changed in an important way?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6629400" y="838080"/>
            <a:ext cx="20415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8:35:35Z</dcterms:created>
  <dc:creator>Erica Hatt</dc:creator>
  <dc:description/>
  <dc:language>en-US</dc:language>
  <cp:lastModifiedBy>Erica Hatt</cp:lastModifiedBy>
  <dcterms:modified xsi:type="dcterms:W3CDTF">2009-02-01T20:32:40Z</dcterms:modified>
  <cp:revision>17</cp:revision>
  <dc:subject/>
  <dc:title>Slide 1</dc:title>
</cp:coreProperties>
</file>